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1.xml"/><Relationship Id="rId4" Type="http://schemas.openxmlformats.org/officeDocument/2006/relationships/slide" Target="slide16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" Target="slide8.xml"/><Relationship Id="rId13" Type="http://schemas.openxmlformats.org/officeDocument/2006/relationships/slide" Target="slide10.xml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10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6.xml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" Target="slide19.xm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3.xml"/><Relationship Id="rId6" Type="http://schemas.openxmlformats.org/officeDocument/2006/relationships/slide" Target="slide43.xml"/><Relationship Id="rId7" Type="http://schemas.openxmlformats.org/officeDocument/2006/relationships/slide" Target="slide43.xml"/><Relationship Id="rId8" Type="http://schemas.openxmlformats.org/officeDocument/2006/relationships/slide" Target="slide43.xml"/><Relationship Id="rId9" Type="http://schemas.openxmlformats.org/officeDocument/2006/relationships/slide" Target="slide1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" Target="slide24.xml"/><Relationship Id="rId1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" Target="slide22.xml"/><Relationship Id="rId13" Type="http://schemas.openxmlformats.org/officeDocument/2006/relationships/slide" Target="slide23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37.xml"/><Relationship Id="rId3" Type="http://schemas.openxmlformats.org/officeDocument/2006/relationships/slide" Target="slide37.xml"/><Relationship Id="rId4" Type="http://schemas.openxmlformats.org/officeDocument/2006/relationships/slide" Target="slide27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26.xml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" Target="slide28.xml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3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26.xml"/><Relationship Id="rId7" Type="http://schemas.openxmlformats.org/officeDocument/2006/relationships/slide" Target="slide27.xml"/><Relationship Id="rId8" Type="http://schemas.openxmlformats.org/officeDocument/2006/relationships/slide" Target="slide28.xml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0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26.xml"/><Relationship Id="rId7" Type="http://schemas.openxmlformats.org/officeDocument/2006/relationships/slide" Target="slide27.xml"/><Relationship Id="rId8" Type="http://schemas.openxmlformats.org/officeDocument/2006/relationships/slide" Target="slide28.xml"/><Relationship Id="rId9" Type="http://schemas.openxmlformats.org/officeDocument/2006/relationships/slide" Target="slide29.xm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2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26.xml"/><Relationship Id="rId7" Type="http://schemas.openxmlformats.org/officeDocument/2006/relationships/slide" Target="slide27.xml"/><Relationship Id="rId8" Type="http://schemas.openxmlformats.org/officeDocument/2006/relationships/slide" Target="slide28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" Target="slide31.xml"/><Relationship Id="rId12" Type="http://schemas.openxmlformats.org/officeDocument/2006/relationships/slide" Target="slide31.xml"/><Relationship Id="rId1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" Target="slide28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" Target="slide28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slide" Target="slide36.xml"/><Relationship Id="rId5" Type="http://schemas.openxmlformats.org/officeDocument/2006/relationships/slide" Target="slide36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26.xml"/><Relationship Id="rId10" Type="http://schemas.openxmlformats.org/officeDocument/2006/relationships/slide" Target="slide27.xml"/><Relationship Id="rId11" Type="http://schemas.openxmlformats.org/officeDocument/2006/relationships/slide" Target="slide28.xml"/><Relationship Id="rId12" Type="http://schemas.openxmlformats.org/officeDocument/2006/relationships/slide" Target="slide33.xml"/><Relationship Id="rId1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8.xml"/><Relationship Id="rId8" Type="http://schemas.openxmlformats.org/officeDocument/2006/relationships/slide" Target="slide33.xml"/><Relationship Id="rId9" Type="http://schemas.openxmlformats.org/officeDocument/2006/relationships/slide" Target="slide34.xml"/><Relationship Id="rId10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" Target="slide28.xml"/><Relationship Id="rId7" Type="http://schemas.openxmlformats.org/officeDocument/2006/relationships/slide" Target="slide33.xml"/><Relationship Id="rId8" Type="http://schemas.openxmlformats.org/officeDocument/2006/relationships/slide" Target="slide34.xml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" Target="slide28.xml"/><Relationship Id="rId7" Type="http://schemas.openxmlformats.org/officeDocument/2006/relationships/slide" Target="slide33.xml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26.xml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26.xml"/><Relationship Id="rId5" Type="http://schemas.openxmlformats.org/officeDocument/2006/relationships/slide" Target="slide38.xml"/><Relationship Id="rId6" Type="http://schemas.openxmlformats.org/officeDocument/2006/relationships/slide" Target="slide39.xml"/><Relationship Id="rId7" Type="http://schemas.openxmlformats.org/officeDocument/2006/relationships/slide" Target="slide40.xml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26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25.xml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7.xml"/><Relationship Id="rId13" Type="http://schemas.openxmlformats.org/officeDocument/2006/relationships/slide" Target="slide7.xml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0.xml"/><Relationship Id="rId3" Type="http://schemas.openxmlformats.org/officeDocument/2006/relationships/slide" Target="slide9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emgeräu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mindert o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ehl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00800" y="5493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101" idx="1"/>
          </p:cNvCxnSpPr>
          <p:nvPr/>
        </p:nvCxnSpPr>
        <p:spPr>
          <a:xfrm flipV="1">
            <a:off x="3313080" y="4080600"/>
            <a:ext cx="2699280" cy="18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2" idx="3"/>
            <a:endCxn id="16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6" name=""/>
          <p:cNvCxnSpPr>
            <a:stCxn id="162" idx="3"/>
            <a:endCxn id="16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2" idx="3"/>
            <a:endCxn id="167" idx="1"/>
          </p:cNvCxnSpPr>
          <p:nvPr/>
        </p:nvCxnSpPr>
        <p:spPr>
          <a:xfrm flipV="1">
            <a:off x="3312720" y="2055600"/>
            <a:ext cx="2699640" cy="202608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0" name=""/>
          <p:cNvCxnSpPr>
            <a:stCxn id="162" idx="3"/>
            <a:endCxn id="168" idx="1"/>
          </p:cNvCxnSpPr>
          <p:nvPr/>
        </p:nvCxnSpPr>
        <p:spPr>
          <a:xfrm>
            <a:off x="3312720" y="4081320"/>
            <a:ext cx="2699640" cy="202824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1139760" y="549360"/>
            <a:ext cx="73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Flüssigkeit (Thoraxergus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natürlich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39760" y="549360"/>
            <a:ext cx="736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3" idx="3"/>
            <a:endCxn id="17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8" name=""/>
          <p:cNvCxnSpPr>
            <a:endCxn id="17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39760" y="549360"/>
            <a:ext cx="7369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rombozyt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80" idx="3"/>
            <a:endCxn id="18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dere Rickettsien-Infektion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influss von Östrog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eLV-Infek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6396840"/>
            <a:ext cx="285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eLV = felines Leukämieviru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39760" y="549360"/>
            <a:ext cx="736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6" idx="3"/>
            <a:endCxn id="18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Sulfonam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 Östr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v. a. Hund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shmanios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3800" y="639684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2" idx="3"/>
            <a:endCxn id="194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5" name=""/>
          <p:cNvCxnSpPr>
            <a:stCxn id="192" idx="3"/>
            <a:endCxn id="196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C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39760" y="549360"/>
            <a:ext cx="736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0560" y="639684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39760" y="549360"/>
            <a:ext cx="736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3"/>
            <a:endCxn id="20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mmunmedi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hrombozytopen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hrlichia-platys-Infektion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6" idx="3"/>
            <a:endCxn id="20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39760" y="549360"/>
            <a:ext cx="736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Flüssigkeit (Thoraxergus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natürlich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Seques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39760" y="549360"/>
            <a:ext cx="736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Thrombozytopen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equestr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plenomega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210" idx="3"/>
            <a:endCxn id="21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stemische 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immunkrankhei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ztorsion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39760" y="549360"/>
            <a:ext cx="73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215" idx="3"/>
            <a:endCxn id="21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 Acetylsalicylsäur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von Willebrand-Faktor-Mange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erglobuli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Urämi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21" idx="3"/>
            <a:endCxn id="222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39760" y="549360"/>
            <a:ext cx="73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lüssigkeit (Thoraxergus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natürlich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törung der sekundären 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terial im Thorax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eweb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Fet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3" idx="3"/>
            <a:endCxn id="10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7" name=""/>
          <p:cNvCxnSpPr>
            <a:stCxn id="103" idx="3"/>
            <a:endCxn id="10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(Thoraxerguss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Luf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neumothorax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3" idx="3"/>
            <a:endCxn id="108" idx="1"/>
          </p:cNvCxnSpPr>
          <p:nvPr/>
        </p:nvCxnSpPr>
        <p:spPr>
          <a:xfrm flipV="1">
            <a:off x="3312720" y="2055600"/>
            <a:ext cx="2699640" cy="202608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1" name=""/>
          <p:cNvCxnSpPr>
            <a:stCxn id="103" idx="3"/>
            <a:endCxn id="109" idx="1"/>
          </p:cNvCxnSpPr>
          <p:nvPr/>
        </p:nvCxnSpPr>
        <p:spPr>
          <a:xfrm>
            <a:off x="3312720" y="4081320"/>
            <a:ext cx="2699640" cy="202824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1064880" y="549360"/>
            <a:ext cx="640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Material im Thorax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39760" y="549360"/>
            <a:ext cx="736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sekund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Gerinnungsfak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5" idx="3"/>
            <a:endCxn id="22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0" name=""/>
          <p:cNvCxnSpPr>
            <a:endCxn id="22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39760" y="549360"/>
            <a:ext cx="736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sekund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Gerinnungsfaktor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2" idx="3"/>
            <a:endCxn id="23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7" name=""/>
          <p:cNvCxnSpPr>
            <a:endCxn id="23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39760" y="549360"/>
            <a:ext cx="7369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sekund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Gerinnungsfaktor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9" idx="3"/>
            <a:endCxn id="24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ämophilie 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ämophilie B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39760" y="549360"/>
            <a:ext cx="7369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sekund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Gerinnungsfaktor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4" idx="3"/>
            <a:endCxn id="24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ber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39760" y="549360"/>
            <a:ext cx="736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sekund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Mangel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Gerinnungsfaktor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9" idx="3"/>
            <a:endCxn id="25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5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C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0560" y="639684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C = disseminierte intravasale Koagul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56" idx="3"/>
            <a:endCxn id="257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5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yl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Ruptur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uctus thoracic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4160" y="549360"/>
            <a:ext cx="65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Chyl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60" idx="3"/>
            <a:endCxn id="262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63" name=""/>
          <p:cNvCxnSpPr>
            <a:stCxn id="260" idx="3"/>
            <a:endCxn id="264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65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xsuda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0" idx="3"/>
            <a:endCxn id="265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odifizier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Transsuda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Transsuda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4160" y="549360"/>
            <a:ext cx="65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Flüssigkeit (Thoraxerguss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onstige Flüss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nssuda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9" idx="3"/>
            <a:endCxn id="271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72" name=""/>
          <p:cNvCxnSpPr>
            <a:stCxn id="269" idx="3"/>
            <a:endCxn id="27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ortale Hypertens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64160" y="549360"/>
            <a:ext cx="65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ranssuda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album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9" idx="3"/>
            <a:endCxn id="27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80" name=""/>
          <p:cNvCxnSpPr>
            <a:stCxn id="279" idx="3"/>
            <a:endCxn id="27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1100880" y="549360"/>
            <a:ext cx="672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lüssigkeit (Thoraxerguss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ranssuda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ypoalbum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album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ynthese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er Lebe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3" idx="3"/>
            <a:endCxn id="286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87" name=""/>
          <p:cNvCxnSpPr>
            <a:stCxn id="283" idx="3"/>
            <a:endCxn id="28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teinaufnah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ie Nahr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nicht relevant be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leintier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00880" y="549360"/>
            <a:ext cx="672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lüssigkeit (Thoraxerguss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ranssuda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ypoalbum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Thoraxerguss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atürli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Flüss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onsti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Flüss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4" idx="3"/>
            <a:endCxn id="11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8" name=""/>
          <p:cNvCxnSpPr>
            <a:stCxn id="114" idx="3"/>
            <a:endCxn id="11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1064160" y="549360"/>
            <a:ext cx="65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Flüssigkeit (Thoraxerguss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nthese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Lebe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0" idx="3"/>
            <a:endCxn id="29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94" name=""/>
          <p:cNvCxnSpPr>
            <a:stCxn id="290" idx="3"/>
            <a:endCxn id="29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1100880" y="549360"/>
            <a:ext cx="672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lüssigkeit (Thoraxerguss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ranssuda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ypoalbum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Synthese in der Lebe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Umgeh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98" idx="3"/>
            <a:endCxn id="299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9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mgeh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rtosystemis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u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85040" y="54936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ranssuda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album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ynthese in der Leber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Umgeh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00880" y="549360"/>
            <a:ext cx="672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ranssuda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album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ynthese in der Leber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berfunktion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302" idx="3"/>
            <a:endCxn id="30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0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zirrh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tumo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Lymphom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lipid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efäß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rchlässigkeit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erlust ü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08" idx="3"/>
            <a:endCxn id="30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2" name=""/>
          <p:cNvCxnSpPr>
            <a:stCxn id="308" idx="3"/>
            <a:endCxn id="31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13" name=""/>
          <p:cNvSpPr/>
          <p:nvPr/>
        </p:nvSpPr>
        <p:spPr>
          <a:xfrm>
            <a:off x="1100880" y="549360"/>
            <a:ext cx="672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Flüssigkeit (Thoraxerguss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Transsuda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Hypoalbum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6" idx="3"/>
            <a:endCxn id="31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efäß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urchlässigkei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00880" y="549360"/>
            <a:ext cx="672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Flüssigkeit (Thoraxerguss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Transsuda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oalbum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Gefäßdurchlässigkei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82880" y="549360"/>
            <a:ext cx="67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ranssuda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album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Gefäßdurchlässigkei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22" name=""/>
          <p:cNvCxnSpPr>
            <a:stCxn id="320" idx="3"/>
            <a:endCxn id="32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shman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6396840"/>
            <a:ext cx="30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7" idx="3"/>
            <a:endCxn id="328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 ü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tei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00880" y="549360"/>
            <a:ext cx="672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ranssuda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album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erlust über 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odifizier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nssuda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1" idx="3"/>
            <a:endCxn id="333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34" name=""/>
          <p:cNvCxnSpPr>
            <a:stCxn id="331" idx="3"/>
            <a:endCxn id="335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chtsherz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21040" y="549360"/>
            <a:ext cx="666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modifizier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ranssuda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suda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64160" y="549360"/>
            <a:ext cx="65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xsuda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leur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38" idx="3"/>
            <a:endCxn id="34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43" name=""/>
          <p:cNvCxnSpPr>
            <a:stCxn id="338" idx="3"/>
            <a:endCxn id="34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39400" y="549360"/>
            <a:ext cx="74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onstig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xsudat &gt; 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5" idx="3"/>
            <a:endCxn id="34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I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ishman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0920" y="6396840"/>
            <a:ext cx="30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ürli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4160" y="549360"/>
            <a:ext cx="65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Chyl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endCxn id="12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6" name=""/>
          <p:cNvCxnSpPr>
            <a:endCxn id="12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eur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4480" y="549360"/>
            <a:ext cx="78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temgeräusche vermindert oder fehlend &gt; Material im Thorax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lüssigkeit (Thoraxerguss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sonstige Flüssigkeit &gt; Exsudat &gt; Pleur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53" name=""/>
          <p:cNvCxnSpPr>
            <a:stCxn id="351" idx="3"/>
            <a:endCxn id="35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5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erforierender Fremdkörpe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web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7360" y="549360"/>
            <a:ext cx="79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temgeräusche vermindert oder fehlend &gt; Material im Thorax &gt; Geweb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6" idx="3"/>
            <a:endCxn id="35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5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ungenektas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ungenatelekta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bszes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Zwerchfellhern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umo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et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7360" y="549360"/>
            <a:ext cx="75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temgeräusche vermindert oder fehlend &gt; Material im Thorax &gt; Fet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1" idx="3"/>
            <a:endCxn id="364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ochgradi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iposita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uf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Pneumothorax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37000" y="549360"/>
            <a:ext cx="75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temgeräusche vermindert oder fehlend &gt; Material im Thorax &gt; Luf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(Pneumothorax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6" idx="3"/>
            <a:endCxn id="36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36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uma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4160" y="549360"/>
            <a:ext cx="65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lok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8" idx="3"/>
            <a:endCxn id="13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3" name=""/>
          <p:cNvCxnSpPr>
            <a:stCxn id="128" idx="3"/>
            <a:endCxn id="13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ok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0480" y="549360"/>
            <a:ext cx="76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lokale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3"/>
            <a:endCxn id="13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efäßruptu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ekund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0" idx="3"/>
            <a:endCxn id="14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4" name=""/>
          <p:cNvCxnSpPr>
            <a:stCxn id="140" idx="3"/>
            <a:endCxn id="14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1139760" y="549360"/>
            <a:ext cx="73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Flüssigkeit (Thoraxergus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natürlich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B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7" idx="3"/>
            <a:endCxn id="149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0" name=""/>
          <p:cNvCxnSpPr>
            <a:stCxn id="147" idx="3"/>
            <a:endCxn id="151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Thrombozyt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47" idx="3"/>
            <a:endCxn id="152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Thromb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39760" y="549360"/>
            <a:ext cx="73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Flüssigkeit (Thoraxergus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natürlich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Störung der primären Hämo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39760" y="549360"/>
            <a:ext cx="73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temgeräusche vermindert oder fehlen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terial im Thorax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 (Thoraxerguss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atürliche Flüssigkei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törung der primären Hämostas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6" idx="3"/>
            <a:endCxn id="15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I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ishman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6396840"/>
            <a:ext cx="30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Gregor und Steffi</cp:lastModifiedBy>
  <cp:lastPrinted>1999-05-13T12:26:48Z</cp:lastPrinted>
  <dcterms:modified xsi:type="dcterms:W3CDTF">2008-10-16T17:02:25Z</dcterms:modified>
  <cp:revision>331</cp:revision>
  <dc:subject/>
  <dc:title>Vorstellung einer Neuheit</dc:title>
</cp:coreProperties>
</file>